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43394-883A-4DDA-BA27-FEA41B1525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656CD-D5F1-48DA-B8A5-DAE2F7ED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852AF7-B8D3-4E9F-90A4-5578F869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CA2FFB-4EA2-4534-AACA-242F1957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961338-3E54-43BA-8D29-74F7B157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DC0FAA-88BF-410C-91BE-7B76F3F9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A1100A-907D-4E62-A992-E0A46ED4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3530F6-6C0C-44DE-8B8A-C164F48E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1CAB4F-882B-4EBD-ABB6-34D042CB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43F4E4-1853-4586-B12D-B403E2A3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7030C7-6FB4-4F9A-A015-A5BB3120CC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5E024-4D02-4889-A395-4B3E6ACA81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1E0F-4BAC-4303-AFB1-F1D936D5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F9D5D-7690-4658-8FBD-02D0195C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48087-A57A-4C9F-B580-EB977090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31F26-49E9-466F-BFEF-4A259484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4C60C-5233-4B60-9EE9-97A30820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EC98E-9FC8-4372-8712-0805B434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766E3-5A20-4241-B2DA-22B2CE3F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631B2-FE0A-429D-8109-7E21C1C4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152BD-BFEE-4875-A23B-B322D841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2A88C-0A33-4F78-BE88-8DA95D5E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18404-1592-497E-8A52-492B9BAD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9EEEC-1BB7-4FD6-BDB7-E0F155E05C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8A4FD-B05E-49A6-9B49-223438D978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509AD1-5823-4010-84C2-17810DF2B1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E1C2B0-1D99-48AA-BD5A-825BE201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51F8E3-670C-49B2-AA7A-A468B30A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58EA62-ACCB-4CFB-88EB-C6006633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E27221-CE7B-4AB2-8B6C-8F672804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AFC9CE-15C0-4126-BEDB-8EEBBFE0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BF3C73-6F3F-4F54-9EE1-5880C7C8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566297-0F53-4F30-89DC-F1B7C7B3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E82791-C461-4C13-82F0-7C9D6DDC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EEC4A-A57C-488A-A396-19E3F5C6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E15F18-1FB3-4ACD-816C-92824CC2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97143E-FE94-4FB0-A37C-508587D5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5FAE03-C561-40AF-B8B7-D215ECC5B2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4E22D-6D29-432D-95D8-A114DAC548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3DEEF-879B-43B4-ADFC-AB779742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E7312-810F-4DBF-B012-FDFCFBE0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59C37-ACA4-44B6-B433-9C534677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76820-3F5B-451B-8AB2-64BA6EE4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8EEEC-7DEF-46B8-8675-D75E717D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2F148-DDC1-47B0-A88C-ECBB422C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6BDBC-93A6-4A91-8BD3-0B270438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7ADC8-CBC7-4AD1-AF4A-647B76F1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4FD7F-B750-43E4-8E38-EE884518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FD3D1-7633-46AC-ADCE-BBCED8E4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F2DEC-7FF1-4C33-9082-B6027508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2E9F4-489E-4976-A01E-86A094110C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1436A-53D9-4316-BF7D-8979FAE403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7F8E0-1211-409D-983A-B08CDB08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DDEA5-CD01-4453-8947-2C49FE6D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DF239-6FDE-4338-889C-B6DA87E1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4C44D-E913-4A58-BA9F-D2039995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507AB-4064-486E-B4FD-372D2510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322E7-D946-42F4-B394-ADD81A6D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C266D-3B78-40DB-8225-EAF3733E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BEB84-A557-405A-808E-35DD9E9A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6495B-D09A-45D3-BC69-382D2BC3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23E75-DBE1-456A-9E03-B3C25413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5971F-5031-4DDE-A823-ACCC688C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07DEC-421C-4702-91E3-149910700D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56578-2DB5-4B26-A08C-97810116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3766E-2FD7-4643-BE93-548A23A9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C439B-690B-49EF-939F-574E2944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4EB60-AECE-405B-906F-8A282296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BD828-CAC2-4278-BB71-9665F950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48323-E33E-406C-A1DE-E5510B1C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AE2DB-18A9-410C-A071-B7278465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A03BA-22AF-4241-945A-B9808EC9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B1AC5-EA52-4A7E-B669-35175FDE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2ECE1-6B5B-47A8-913C-F6E0EEFE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199D8-E562-4EBD-842B-A03DF7D2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188C9-D9EC-4CFF-8D1C-5E7C7A71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F6213-E215-48E7-9188-7392E77A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DBE89-1399-4C4A-A382-2401BB6B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897BB-284D-45D6-8939-CE1F7A18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EA23C-C846-48CE-96D8-375B686F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5091B-E9EC-4713-8EE0-C9B712D1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588E0-8AF7-4D40-B8C2-93F4FBC8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2E64B-F9B6-4BC9-B302-A75AC9F7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6E8A5-AF51-44A9-B085-B9C64F6C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03076-C3A1-47F8-80C2-B7F5221E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1AB07-EFD4-4755-8069-9E542709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72B91-A677-4AD2-80DB-385A0F6A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66271-942F-4737-B89C-D94E681D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F95E3-9DFD-4386-B1FD-77DCB762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73A9C-0C2A-44E8-8A6F-F4DE7851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C442E-0207-451D-B2A4-C361EBD8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2ABF1-2F7C-4B76-9541-AA6A72A3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1080E-456B-4611-94A6-963C7F8C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7C957-994C-4C89-8496-21B615F0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92067-D9A0-4B32-B82F-0480774C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43033-ECB0-4CED-9C32-96AAFCCD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AD775-D93F-467D-BE49-CB79B6A7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1FF47-6BB6-4CC7-A49D-03A3E435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CEC5F-6A87-42F1-9253-38046EA3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5BEE6-DCBB-4C71-85FB-9B36B9BD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BCF42-5183-47CB-A493-34E34C51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405D8-DAB4-4412-9D49-E64F8ED3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E1D96-5F9C-4AA5-90AD-976C2125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B8C69-1340-4808-86E3-E0B5625B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4E18A-9840-4CEE-9307-20A0E2D1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C5C62-9E7C-4DD8-A6BF-68E0F7E8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9FDB0-1F47-4F5E-B245-C4141CCC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3D544-FD03-4BDC-8E1A-A26EDD9C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55377-CE88-483C-92AD-D493AC3D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B8CCF-C056-4E79-A99F-38558AAD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E60D5-0CEF-4872-A131-A9BA5CC9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C22B-0A71-4E55-B8D6-ECC73190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1862D-6F8B-419C-A3FB-F623BB32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F5D886-98C8-4181-8739-2DD98BB1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4A59D-A5FC-440C-80C2-87B6C5C1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95C6F-95CE-45C0-B360-72E473E5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C5C25-7031-4B6A-A16D-4D7BF274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F618A-0CD5-4538-9B17-80496BFB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D30EF-AB60-4C86-885E-AA2A0491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1F999-0AC3-4357-856D-5BF6E963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143B4-6483-4F9D-8888-3D6487F2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F2FE1E-74B4-4749-97A0-5DD0B444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AD831-7183-4B54-9159-5F0E2370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EBCD2-ADA1-49B0-B91E-177916BB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1606E-40B2-47F4-880D-B821F26B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84E22-D6B2-4E38-B7E9-487A6A87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98F94-12BB-487C-BF1E-D79A1AA6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25CC1-60E1-4F77-A771-C845FAF7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478A7-A134-4B78-875F-ECDDB479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FA2B3A-AC01-47A6-8FC5-1C96DAD3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8A394-F5FC-44B0-A64E-7ED5A1CA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8C996-D4DD-4E63-84F9-E000ED23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C749C-293E-4282-8CFB-FF819B5E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098FB8-3CAC-4B26-8BFE-CE613BDA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B1D28-C254-444A-B9B7-E3701E9D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ABBE47-5AF2-4D26-B6CD-0362A0D9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FE40FD-897D-478B-97F1-97B3F8A9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7E4085-B35A-46B9-A2A4-82125144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F76D81-6FEA-4E08-82EF-F1DDDED0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B4C43F-6840-4637-9FCF-EEDC91FD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B16039-B68D-4D50-A249-F1E3CD66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DE9F57-4411-4D82-B94F-7DBF0FD2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3F3E0-B272-4BF7-8B5A-B11E4FE3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A0465-41C3-4210-BBFD-617A4E15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BE5DAE-15DE-4B41-A122-82D0BD01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7E3CA-85B8-49BC-9499-63689AEF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223ED7-77BE-49AE-BDFE-17A853B9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9F351F-897D-442E-8261-4F6EE1BA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9A3EED-8F65-4CF7-A1E2-B869FE94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116D84-BF66-4433-914B-93CF5016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FE3C8-BAF8-499C-B90C-92BD8F9F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B0FB7B-3C90-4F28-84C8-3257A34B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9AA88-8083-47B4-8412-259E3B1A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F6EE9-DFFE-4628-B000-88D9CC83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03B22-4BC0-42D7-A53C-373ABEFC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93DACB-B57B-4F7B-9867-38EA1147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2BA4F-9EC6-45B1-A411-E963062C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E0AEE-FB7F-47D8-9467-23064CEE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D95FF0-7FFB-444D-8F0C-96B702CB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211DE8-38C1-4EFF-9B0D-581F2653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403731-868D-432E-A884-7AD66E36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843A5-AAD5-4236-90D6-5B8D38C1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C0764-A279-461B-B747-29D6786D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F2CC4A-9F0A-4C93-B53A-557C3A63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D67EE0-1F1B-4DA9-A19F-F152190F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70D279-CB91-46B8-9C75-5092856C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98ACA-C3FF-4873-AFF5-BDF5FE33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A810D-5469-4FDA-80BB-5D52B32102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2448E5-882E-4228-B1B2-96269D91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3B3431-7085-487F-AF42-0836D74A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44DCF8-D86A-4BD0-82B6-791A67A8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59623-E280-4B33-8596-2FC43533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9E2192-AB07-4D89-BFC2-23EB985C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BB7F69-E841-4A7D-ABEB-F6522A7D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E81F2D-0409-4FA0-B828-BE49F529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71912-621A-4D0A-86B2-82D67175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A63856-6E39-440D-8C18-DA82FAFC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E5B1F9-15AC-40B5-B3C0-E11A0BBE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0D0C61-CCF8-4A89-88F6-883E2925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E39BF0-5CA2-4288-867D-BBA32A05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B5CB78-0266-4987-9D38-7CDE0623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1B3124-6DBF-401F-B4FA-711A75BD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E5ECC9-D37B-4C5F-BA0F-BF69F8B2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28E397-AC83-424E-821A-275AB8BF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CBE90-38F8-457B-B24B-9D9CB668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54F5A3-50E2-4F2E-B44B-CB399CD1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DE2C94-CBA9-4BF1-852D-026DE197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D66ED1-7DE5-4C84-83E6-A7D155C5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88B05B-3223-4BD9-A2AC-D03EEACD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8D10B8-2F0C-492D-B257-27EC2FEE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643131-03DB-4229-8A69-30B7BA22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833C54-A7AA-465F-9A90-7B649A60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8427D5-47FA-4067-A849-5E771EC5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C4F9F2-CD07-4980-B205-7F323607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B56157-0828-48CE-B426-DE1ADC37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A7C1C5-DBB0-460B-9EF5-10ED12E6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ED7494-C6A0-42B4-A547-3116CE07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E1575F-2693-42EC-9EEC-854A4B3D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EC2DA1-826B-4AA2-981B-D566367B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8661DA-563A-49C4-958D-5F88BF3C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43BD34-1B6C-4E4F-921A-2DE6F309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1F5BA1-81A4-422D-B814-C20C7529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9ECDD1-9602-49DE-B7E0-61EECFAF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8321A5-1BB4-42A2-BBF8-1D284B8B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2E5B71-4CC1-4A03-8527-C19F02A8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1AF439-D184-4E12-8A71-A953D0F5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DECC3D-A9D1-4076-86DE-225EB3E2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BDEC9E-9152-41BF-AB37-63C138CA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A805C3-82CD-4022-8730-8C2DA61A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947CB0-8C9E-449C-8BBC-674410E4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F7B50-8988-4E2B-ABCF-3B1B5B30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0D8FD-A1F8-4946-8FB5-6D4C24A0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BA7C82-EDC1-4D1B-9939-F75249FC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374951-5547-48BB-B939-1186B7B1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0F5D7A-83EB-41E9-B0E5-C21348EB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EE67D-5D8C-49B9-955A-7F750492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A05370-FBEB-4A85-BE36-00A9EE7A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A548EB-B25E-4E4F-88B1-0BE55A6D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70415C-94CD-4C3B-80FA-ED31B4955D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8B28-1AAA-49FC-8671-3233ACEA8C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A8406-D04C-4AF9-953A-6A3E92E1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2981-933D-460D-8659-5C45F30D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11678-806D-440A-8393-1DFC777F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85036-A542-45D0-ADC7-4492416C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E04BC-D9BA-4A9C-8132-B12BC310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4F8D-D973-4EA3-B3B2-429B5721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D21FD-0DDE-4ED8-BA14-0326A3AC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93FEC-4FAF-4D3F-83AB-C1286AF9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06E7C-7896-4EEB-B596-7DB52115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9204-2F6C-4C00-85CF-FB0A6D2F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891C-535B-4D89-918D-AF0304C3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06B9D-D216-45AC-AF6C-8FB8A9B5C9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9FD538-B3A2-4D61-B9BB-4FBDC0610E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502F-75EA-423F-BD7B-F0AC6457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B6E188-3493-4B16-AA42-BC3B23AB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D248AC-3C45-4EDD-83E9-7A7A9D1A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886EF4-3CAA-46F3-B787-7F133F08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CAC669-03E5-44B6-8C49-33707A19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42596B-31B8-4283-B4EA-38467044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00396B-3C1E-4E3F-A8BF-7ED3D010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EE6742-C98C-4BA4-9F3C-C2262CDA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F8E97-9262-4047-BB64-A062991B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21240C-A85C-4D62-8D7C-3573F6DE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76CE0-644C-4E16-B351-F2FA0717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C47B5-1A28-4520-B362-2084A31F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72AB3-C33D-4CAF-8319-F95A1FECE9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5DC7A6-6383-4FAC-88CA-E13212E5B3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6B611B-DD36-4887-9C2E-AC3E6BC0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F609A3-6439-457A-A51A-DA95F22E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1EDC9E-CB98-4E44-B419-61F4987A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ACCD26-F9C6-421B-B45F-98F48900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FA40BC-F3E4-4C1C-924C-A12337BF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5B3307-9204-4900-8E82-B585BB4C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7E54E3-3A36-4FC6-81F7-9705E9A0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6BA462-1A20-4C25-BF04-0E9212F3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6A4BC-7881-4AB5-8279-B5ECA446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19A459-5569-4459-A03A-317F7C33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2FBF0D-0F7D-4E45-9EF5-B35D226F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9657DD-98FE-4F0E-B110-C2D9B1AF98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8A40D-38B4-4BE1-A56E-066754C0E1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5980B-9018-4F04-9680-2F240DF8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6AF87-35CE-4CAC-9B9D-2F624F59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43298-BB5E-47A6-861A-55F276EA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31090-B433-4B35-B4BE-2260CD2F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50617-6908-4136-998B-FF135DB8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8EAC3-900A-4B9A-A2EA-35EB488E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A753-2C55-4352-B4D1-6414EEDE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DECD5-DFE3-4AFA-B269-2C937F08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AE248-2C54-43C6-94D5-E9564A03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7BB89-46A4-458D-AFC9-92AE014D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B2598-93E2-4186-B8CC-17038A5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AA592-4101-4DBE-8217-895D85928B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11A46-7490-4D30-8AFE-259E77A684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44944F-4CD9-427C-9290-66E15AE5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FE35C4-049A-4DE8-9B4D-28210BC5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374AF4-13F6-4FD8-BB62-B4280A52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27C93-F24D-415A-8D1C-560F3AD4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EEA81-62D2-4F5D-A760-E090EDDC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CF068-55EF-462B-9655-98573BD3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873AB-DF91-47DA-99C8-A742EBAE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C8465-9E54-4210-ABF1-EF0381A5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70B71E-C3CD-491E-B694-BF6FA2DD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CC845-E81F-4E81-ADC7-2FAB449A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803A9-AECB-497A-8ADB-9892ABCD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DD4CC9-66EF-4786-98BD-06BFA3A564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1F8BAD-C1E4-4B91-9D32-F0BB90E651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D0A9C2-CF2B-4DFE-A6B6-D4D7278C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555B69-E757-4201-B287-55AF4318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9E3E-8D3E-46C1-B01D-6D811C8DECC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D78D-0BD1-4418-9D76-4662932A1F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E24E-7E5C-4098-B210-36820B6E131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EA78-148A-4F09-ACD1-93D66575E37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7BAC-CB73-4BE3-A1E4-E50E01EA692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267D-552F-4C2E-A13A-69784A4224B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9649-AAE2-4723-BF72-E2BB11F8907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03DD-1F6D-4DF4-BF5A-ADCAEAAEE9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C764-DC55-4BB5-A23A-1E3F26D7091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77A7-E0CD-4A55-A0B3-59F91A3F6ED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232B-9CDC-4AE9-A6A8-680B7DA9D3B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F675-C07F-4258-B022-025B0E4D4FD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FE64-9E83-43B3-A83D-C1669FB75B6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6A9F-333C-4DEC-8590-27ABCE7A3AB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F7BE-1013-4384-B051-9617BF4996F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9746-A60C-4652-A511-3C3823819B0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E03C-2258-4EE6-B0A5-6EDFADD870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C6FA-5361-4744-AC26-D9B23856CEA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A326-BDBE-418F-B851-574764F920B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F91A-04AF-453C-B1EA-B144CCB5D00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96BB-9A8C-4B95-962F-898A6212685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1433-3566-43DC-ADE0-C4A5A14346D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5BD5-7A8A-4A84-AA8E-6E9DAC278A3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169F-55CC-49CC-85A2-4FE2195C37F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689200" y="2730600"/>
            <a:ext cx="558720" cy="4618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6480" y="2655720"/>
            <a:ext cx="8445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习 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07800" y="1816200"/>
            <a:ext cx="91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文本框 2"/>
          <p:cNvSpPr/>
          <p:nvPr/>
        </p:nvSpPr>
        <p:spPr>
          <a:xfrm>
            <a:off x="355680" y="71604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连一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3"/>
          <p:cNvSpPr/>
          <p:nvPr/>
        </p:nvSpPr>
        <p:spPr>
          <a:xfrm>
            <a:off x="539640" y="1352520"/>
            <a:ext cx="1092240" cy="432000"/>
          </a:xfrm>
          <a:prstGeom prst="rect">
            <a:avLst/>
          </a:prstGeom>
          <a:solidFill>
            <a:srgbClr val="ffff00"/>
          </a:solidFill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-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2263680" y="1352520"/>
            <a:ext cx="1092240" cy="432000"/>
          </a:xfrm>
          <a:prstGeom prst="rect">
            <a:avLst/>
          </a:prstGeom>
          <a:solidFill>
            <a:srgbClr val="ffff00"/>
          </a:solidFill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8+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矩形 10"/>
          <p:cNvSpPr/>
          <p:nvPr/>
        </p:nvSpPr>
        <p:spPr>
          <a:xfrm>
            <a:off x="3986280" y="1352520"/>
            <a:ext cx="1093680" cy="432000"/>
          </a:xfrm>
          <a:prstGeom prst="rect">
            <a:avLst/>
          </a:prstGeom>
          <a:solidFill>
            <a:srgbClr val="ffff00"/>
          </a:solidFill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7-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矩形 12"/>
          <p:cNvSpPr/>
          <p:nvPr/>
        </p:nvSpPr>
        <p:spPr>
          <a:xfrm>
            <a:off x="5710320" y="1352520"/>
            <a:ext cx="1092240" cy="432000"/>
          </a:xfrm>
          <a:prstGeom prst="rect">
            <a:avLst/>
          </a:prstGeom>
          <a:solidFill>
            <a:srgbClr val="ffff00"/>
          </a:solidFill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1-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矩形 14"/>
          <p:cNvSpPr/>
          <p:nvPr/>
        </p:nvSpPr>
        <p:spPr>
          <a:xfrm>
            <a:off x="7432560" y="1352520"/>
            <a:ext cx="1094040" cy="432000"/>
          </a:xfrm>
          <a:prstGeom prst="rect">
            <a:avLst/>
          </a:prstGeom>
          <a:solidFill>
            <a:srgbClr val="ffff00"/>
          </a:solidFill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-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组合 40"/>
          <p:cNvGrpSpPr/>
          <p:nvPr/>
        </p:nvGrpSpPr>
        <p:grpSpPr>
          <a:xfrm>
            <a:off x="1244520" y="3638520"/>
            <a:ext cx="6432480" cy="707040"/>
            <a:chOff x="1244520" y="3638520"/>
            <a:chExt cx="6432480" cy="707040"/>
          </a:xfrm>
        </p:grpSpPr>
        <p:grpSp>
          <p:nvGrpSpPr>
            <p:cNvPr id="1005" name="组合 20"/>
            <p:cNvGrpSpPr/>
            <p:nvPr/>
          </p:nvGrpSpPr>
          <p:grpSpPr>
            <a:xfrm>
              <a:off x="1244520" y="3638520"/>
              <a:ext cx="1203840" cy="658080"/>
              <a:chOff x="1244520" y="3638520"/>
              <a:chExt cx="1203840" cy="658080"/>
            </a:xfrm>
          </p:grpSpPr>
          <p:sp>
            <p:nvSpPr>
              <p:cNvPr id="1006" name="立方体 15"/>
              <p:cNvSpPr/>
              <p:nvPr/>
            </p:nvSpPr>
            <p:spPr>
              <a:xfrm>
                <a:off x="1244520" y="3638520"/>
                <a:ext cx="1203840" cy="658080"/>
              </a:xfrm>
              <a:prstGeom prst="cube">
                <a:avLst>
                  <a:gd name="adj" fmla="val 36601"/>
                </a:avLst>
              </a:prstGeom>
              <a:solidFill>
                <a:srgbClr val="ffff00"/>
              </a:solidFill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矩形 16"/>
              <p:cNvSpPr/>
              <p:nvPr/>
            </p:nvSpPr>
            <p:spPr>
              <a:xfrm>
                <a:off x="1276200" y="3903120"/>
                <a:ext cx="899280" cy="360000"/>
              </a:xfrm>
              <a:prstGeom prst="rect">
                <a:avLst/>
              </a:prstGeom>
              <a:noFill/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平行四边形 18"/>
              <p:cNvSpPr/>
              <p:nvPr/>
            </p:nvSpPr>
            <p:spPr>
              <a:xfrm>
                <a:off x="1527480" y="3694680"/>
                <a:ext cx="628200" cy="117720"/>
              </a:xfrm>
              <a:prstGeom prst="parallelogram">
                <a:avLst>
                  <a:gd name="adj" fmla="val 96574"/>
                </a:avLst>
              </a:prstGeom>
              <a:noFill/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直接连接符 19"/>
              <p:cNvSpPr/>
              <p:nvPr/>
            </p:nvSpPr>
            <p:spPr>
              <a:xfrm>
                <a:off x="1646280" y="3696120"/>
                <a:ext cx="0" cy="107640"/>
              </a:xfrm>
              <a:prstGeom prst="line">
                <a:avLst/>
              </a:prstGeom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组合 21"/>
            <p:cNvGrpSpPr/>
            <p:nvPr/>
          </p:nvGrpSpPr>
          <p:grpSpPr>
            <a:xfrm>
              <a:off x="3858480" y="3638520"/>
              <a:ext cx="1203840" cy="658080"/>
              <a:chOff x="3858480" y="3638520"/>
              <a:chExt cx="1203840" cy="658080"/>
            </a:xfrm>
          </p:grpSpPr>
          <p:sp>
            <p:nvSpPr>
              <p:cNvPr id="1011" name="立方体 22"/>
              <p:cNvSpPr/>
              <p:nvPr/>
            </p:nvSpPr>
            <p:spPr>
              <a:xfrm>
                <a:off x="3858480" y="3638520"/>
                <a:ext cx="1203840" cy="658080"/>
              </a:xfrm>
              <a:prstGeom prst="cube">
                <a:avLst>
                  <a:gd name="adj" fmla="val 36601"/>
                </a:avLst>
              </a:prstGeom>
              <a:solidFill>
                <a:srgbClr val="ffff00"/>
              </a:solidFill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矩形 23"/>
              <p:cNvSpPr/>
              <p:nvPr/>
            </p:nvSpPr>
            <p:spPr>
              <a:xfrm>
                <a:off x="3890160" y="3903120"/>
                <a:ext cx="899280" cy="360000"/>
              </a:xfrm>
              <a:prstGeom prst="rect">
                <a:avLst/>
              </a:prstGeom>
              <a:noFill/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平行四边形 24"/>
              <p:cNvSpPr/>
              <p:nvPr/>
            </p:nvSpPr>
            <p:spPr>
              <a:xfrm>
                <a:off x="4141440" y="3694680"/>
                <a:ext cx="628200" cy="117720"/>
              </a:xfrm>
              <a:prstGeom prst="parallelogram">
                <a:avLst>
                  <a:gd name="adj" fmla="val 96574"/>
                </a:avLst>
              </a:prstGeom>
              <a:noFill/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直接连接符 25"/>
              <p:cNvSpPr/>
              <p:nvPr/>
            </p:nvSpPr>
            <p:spPr>
              <a:xfrm>
                <a:off x="4260240" y="3696120"/>
                <a:ext cx="0" cy="107640"/>
              </a:xfrm>
              <a:prstGeom prst="line">
                <a:avLst/>
              </a:prstGeom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组合 26"/>
            <p:cNvGrpSpPr/>
            <p:nvPr/>
          </p:nvGrpSpPr>
          <p:grpSpPr>
            <a:xfrm>
              <a:off x="6473160" y="3638520"/>
              <a:ext cx="1203840" cy="658080"/>
              <a:chOff x="6473160" y="3638520"/>
              <a:chExt cx="1203840" cy="658080"/>
            </a:xfrm>
          </p:grpSpPr>
          <p:sp>
            <p:nvSpPr>
              <p:cNvPr id="1016" name="立方体 27"/>
              <p:cNvSpPr/>
              <p:nvPr/>
            </p:nvSpPr>
            <p:spPr>
              <a:xfrm>
                <a:off x="6473160" y="3638520"/>
                <a:ext cx="1203840" cy="658080"/>
              </a:xfrm>
              <a:prstGeom prst="cube">
                <a:avLst>
                  <a:gd name="adj" fmla="val 36601"/>
                </a:avLst>
              </a:prstGeom>
              <a:solidFill>
                <a:srgbClr val="ffff00"/>
              </a:solidFill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矩形 28"/>
              <p:cNvSpPr/>
              <p:nvPr/>
            </p:nvSpPr>
            <p:spPr>
              <a:xfrm>
                <a:off x="6504840" y="3903120"/>
                <a:ext cx="899280" cy="360000"/>
              </a:xfrm>
              <a:prstGeom prst="rect">
                <a:avLst/>
              </a:prstGeom>
              <a:noFill/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平行四边形 35"/>
              <p:cNvSpPr/>
              <p:nvPr/>
            </p:nvSpPr>
            <p:spPr>
              <a:xfrm>
                <a:off x="6756120" y="3694680"/>
                <a:ext cx="628200" cy="117720"/>
              </a:xfrm>
              <a:prstGeom prst="parallelogram">
                <a:avLst>
                  <a:gd name="adj" fmla="val 96574"/>
                </a:avLst>
              </a:prstGeom>
              <a:noFill/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直接连接符 36"/>
              <p:cNvSpPr/>
              <p:nvPr/>
            </p:nvSpPr>
            <p:spPr>
              <a:xfrm>
                <a:off x="6874920" y="3696120"/>
                <a:ext cx="0" cy="107640"/>
              </a:xfrm>
              <a:prstGeom prst="line">
                <a:avLst/>
              </a:prstGeom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文本框 37"/>
            <p:cNvSpPr/>
            <p:nvPr/>
          </p:nvSpPr>
          <p:spPr>
            <a:xfrm>
              <a:off x="1413720" y="3825000"/>
              <a:ext cx="62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文本框 38"/>
            <p:cNvSpPr/>
            <p:nvPr/>
          </p:nvSpPr>
          <p:spPr>
            <a:xfrm>
              <a:off x="4042800" y="3823920"/>
              <a:ext cx="62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文本框 39"/>
            <p:cNvSpPr/>
            <p:nvPr/>
          </p:nvSpPr>
          <p:spPr>
            <a:xfrm>
              <a:off x="6671880" y="3822480"/>
              <a:ext cx="62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直接连接符 41"/>
          <p:cNvSpPr/>
          <p:nvPr/>
        </p:nvSpPr>
        <p:spPr>
          <a:xfrm>
            <a:off x="1085760" y="1784520"/>
            <a:ext cx="881280" cy="1854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直接连接符 42"/>
          <p:cNvSpPr/>
          <p:nvPr/>
        </p:nvSpPr>
        <p:spPr>
          <a:xfrm>
            <a:off x="2809800" y="1784520"/>
            <a:ext cx="1771560" cy="1854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直接连接符 43"/>
          <p:cNvSpPr/>
          <p:nvPr/>
        </p:nvSpPr>
        <p:spPr>
          <a:xfrm flipV="1">
            <a:off x="7194600" y="1784520"/>
            <a:ext cx="785880" cy="1854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直接连接符 44"/>
          <p:cNvSpPr/>
          <p:nvPr/>
        </p:nvSpPr>
        <p:spPr>
          <a:xfrm flipV="1">
            <a:off x="1967040" y="1784520"/>
            <a:ext cx="4289400" cy="1854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直接连接符 46"/>
          <p:cNvSpPr/>
          <p:nvPr/>
        </p:nvSpPr>
        <p:spPr>
          <a:xfrm flipH="1" flipV="1">
            <a:off x="4533480" y="1784520"/>
            <a:ext cx="2660760" cy="1854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文本框 2"/>
          <p:cNvSpPr/>
          <p:nvPr/>
        </p:nvSpPr>
        <p:spPr>
          <a:xfrm>
            <a:off x="396720" y="80964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列竖式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49"/>
          <p:cNvGrpSpPr/>
          <p:nvPr/>
        </p:nvGrpSpPr>
        <p:grpSpPr>
          <a:xfrm>
            <a:off x="576360" y="1346040"/>
            <a:ext cx="8156520" cy="2596680"/>
            <a:chOff x="576360" y="1346040"/>
            <a:chExt cx="8156520" cy="2596680"/>
          </a:xfrm>
        </p:grpSpPr>
        <p:sp>
          <p:nvSpPr>
            <p:cNvPr id="1030" name="文本框 6"/>
            <p:cNvSpPr/>
            <p:nvPr/>
          </p:nvSpPr>
          <p:spPr>
            <a:xfrm>
              <a:off x="576360" y="134604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8-45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文本框 7"/>
            <p:cNvSpPr/>
            <p:nvPr/>
          </p:nvSpPr>
          <p:spPr>
            <a:xfrm>
              <a:off x="2664360" y="13464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-34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文本框 8"/>
            <p:cNvSpPr/>
            <p:nvPr/>
          </p:nvSpPr>
          <p:spPr>
            <a:xfrm>
              <a:off x="4753080" y="134712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2-17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文本框 9"/>
            <p:cNvSpPr/>
            <p:nvPr/>
          </p:nvSpPr>
          <p:spPr>
            <a:xfrm>
              <a:off x="6841440" y="134784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8-19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文本框 10"/>
            <p:cNvSpPr/>
            <p:nvPr/>
          </p:nvSpPr>
          <p:spPr>
            <a:xfrm>
              <a:off x="57636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-39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文本框 12"/>
            <p:cNvSpPr/>
            <p:nvPr/>
          </p:nvSpPr>
          <p:spPr>
            <a:xfrm>
              <a:off x="266436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4-7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文本框 14"/>
            <p:cNvSpPr/>
            <p:nvPr/>
          </p:nvSpPr>
          <p:spPr>
            <a:xfrm>
              <a:off x="475308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-68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文本框 15"/>
            <p:cNvSpPr/>
            <p:nvPr/>
          </p:nvSpPr>
          <p:spPr>
            <a:xfrm>
              <a:off x="684144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1-37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组合 18"/>
          <p:cNvGrpSpPr/>
          <p:nvPr/>
        </p:nvGrpSpPr>
        <p:grpSpPr>
          <a:xfrm>
            <a:off x="620640" y="1835280"/>
            <a:ext cx="919080" cy="1191240"/>
            <a:chOff x="620640" y="1835280"/>
            <a:chExt cx="919080" cy="1191240"/>
          </a:xfrm>
        </p:grpSpPr>
        <p:sp>
          <p:nvSpPr>
            <p:cNvPr id="1039" name="文本框 16"/>
            <p:cNvSpPr/>
            <p:nvPr/>
          </p:nvSpPr>
          <p:spPr>
            <a:xfrm>
              <a:off x="620640" y="183528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4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直接连接符 17"/>
            <p:cNvSpPr/>
            <p:nvPr/>
          </p:nvSpPr>
          <p:spPr>
            <a:xfrm>
              <a:off x="700560" y="256356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组合 19"/>
          <p:cNvGrpSpPr/>
          <p:nvPr/>
        </p:nvGrpSpPr>
        <p:grpSpPr>
          <a:xfrm>
            <a:off x="2735280" y="1835280"/>
            <a:ext cx="919080" cy="1191240"/>
            <a:chOff x="2735280" y="1835280"/>
            <a:chExt cx="919080" cy="1191240"/>
          </a:xfrm>
        </p:grpSpPr>
        <p:sp>
          <p:nvSpPr>
            <p:cNvPr id="1042" name="文本框 20"/>
            <p:cNvSpPr/>
            <p:nvPr/>
          </p:nvSpPr>
          <p:spPr>
            <a:xfrm>
              <a:off x="2735280" y="183528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3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21"/>
            <p:cNvSpPr/>
            <p:nvPr/>
          </p:nvSpPr>
          <p:spPr>
            <a:xfrm>
              <a:off x="2815200" y="256356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组合 22"/>
          <p:cNvGrpSpPr/>
          <p:nvPr/>
        </p:nvGrpSpPr>
        <p:grpSpPr>
          <a:xfrm>
            <a:off x="4848120" y="1835280"/>
            <a:ext cx="919440" cy="1191240"/>
            <a:chOff x="4848120" y="1835280"/>
            <a:chExt cx="919440" cy="1191240"/>
          </a:xfrm>
        </p:grpSpPr>
        <p:sp>
          <p:nvSpPr>
            <p:cNvPr id="1045" name="文本框 23"/>
            <p:cNvSpPr/>
            <p:nvPr/>
          </p:nvSpPr>
          <p:spPr>
            <a:xfrm>
              <a:off x="4848120" y="1835280"/>
              <a:ext cx="91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1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直接连接符 24"/>
            <p:cNvSpPr/>
            <p:nvPr/>
          </p:nvSpPr>
          <p:spPr>
            <a:xfrm>
              <a:off x="4928040" y="256356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组合 25"/>
          <p:cNvGrpSpPr/>
          <p:nvPr/>
        </p:nvGrpSpPr>
        <p:grpSpPr>
          <a:xfrm>
            <a:off x="6962760" y="1835280"/>
            <a:ext cx="919080" cy="1191240"/>
            <a:chOff x="6962760" y="1835280"/>
            <a:chExt cx="919080" cy="1191240"/>
          </a:xfrm>
        </p:grpSpPr>
        <p:sp>
          <p:nvSpPr>
            <p:cNvPr id="1048" name="文本框 26"/>
            <p:cNvSpPr/>
            <p:nvPr/>
          </p:nvSpPr>
          <p:spPr>
            <a:xfrm>
              <a:off x="6962760" y="183528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1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直接连接符 27"/>
            <p:cNvSpPr/>
            <p:nvPr/>
          </p:nvSpPr>
          <p:spPr>
            <a:xfrm>
              <a:off x="7042680" y="256356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组合 28"/>
          <p:cNvGrpSpPr/>
          <p:nvPr/>
        </p:nvGrpSpPr>
        <p:grpSpPr>
          <a:xfrm>
            <a:off x="612720" y="4089240"/>
            <a:ext cx="919080" cy="1191240"/>
            <a:chOff x="612720" y="4089240"/>
            <a:chExt cx="919080" cy="1191240"/>
          </a:xfrm>
        </p:grpSpPr>
        <p:sp>
          <p:nvSpPr>
            <p:cNvPr id="1051" name="文本框 35"/>
            <p:cNvSpPr/>
            <p:nvPr/>
          </p:nvSpPr>
          <p:spPr>
            <a:xfrm>
              <a:off x="612720" y="408924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3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直接连接符 36"/>
            <p:cNvSpPr/>
            <p:nvPr/>
          </p:nvSpPr>
          <p:spPr>
            <a:xfrm>
              <a:off x="692640" y="481896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组合 40"/>
          <p:cNvGrpSpPr/>
          <p:nvPr/>
        </p:nvGrpSpPr>
        <p:grpSpPr>
          <a:xfrm>
            <a:off x="2735280" y="4098960"/>
            <a:ext cx="919080" cy="1191240"/>
            <a:chOff x="2735280" y="4098960"/>
            <a:chExt cx="919080" cy="1191240"/>
          </a:xfrm>
        </p:grpSpPr>
        <p:sp>
          <p:nvSpPr>
            <p:cNvPr id="1054" name="文本框 41"/>
            <p:cNvSpPr/>
            <p:nvPr/>
          </p:nvSpPr>
          <p:spPr>
            <a:xfrm>
              <a:off x="2735280" y="409896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  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直接连接符 42"/>
            <p:cNvSpPr/>
            <p:nvPr/>
          </p:nvSpPr>
          <p:spPr>
            <a:xfrm>
              <a:off x="2815200" y="482724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组合 43"/>
          <p:cNvGrpSpPr/>
          <p:nvPr/>
        </p:nvGrpSpPr>
        <p:grpSpPr>
          <a:xfrm>
            <a:off x="4848120" y="4098960"/>
            <a:ext cx="919440" cy="1191240"/>
            <a:chOff x="4848120" y="4098960"/>
            <a:chExt cx="919440" cy="1191240"/>
          </a:xfrm>
        </p:grpSpPr>
        <p:sp>
          <p:nvSpPr>
            <p:cNvPr id="1057" name="文本框 44"/>
            <p:cNvSpPr/>
            <p:nvPr/>
          </p:nvSpPr>
          <p:spPr>
            <a:xfrm>
              <a:off x="4848120" y="4098960"/>
              <a:ext cx="91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6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直接连接符 45"/>
            <p:cNvSpPr/>
            <p:nvPr/>
          </p:nvSpPr>
          <p:spPr>
            <a:xfrm>
              <a:off x="4928040" y="482724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组合 46"/>
          <p:cNvGrpSpPr/>
          <p:nvPr/>
        </p:nvGrpSpPr>
        <p:grpSpPr>
          <a:xfrm>
            <a:off x="6962760" y="4098960"/>
            <a:ext cx="919080" cy="1191240"/>
            <a:chOff x="6962760" y="4098960"/>
            <a:chExt cx="919080" cy="1191240"/>
          </a:xfrm>
        </p:grpSpPr>
        <p:sp>
          <p:nvSpPr>
            <p:cNvPr id="1060" name="文本框 47"/>
            <p:cNvSpPr/>
            <p:nvPr/>
          </p:nvSpPr>
          <p:spPr>
            <a:xfrm>
              <a:off x="6962760" y="409896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3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直接连接符 48"/>
            <p:cNvSpPr/>
            <p:nvPr/>
          </p:nvSpPr>
          <p:spPr>
            <a:xfrm>
              <a:off x="7042680" y="482724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文本框 50"/>
          <p:cNvSpPr/>
          <p:nvPr/>
        </p:nvSpPr>
        <p:spPr>
          <a:xfrm>
            <a:off x="1619280" y="13366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文本框 51"/>
          <p:cNvSpPr/>
          <p:nvPr/>
        </p:nvSpPr>
        <p:spPr>
          <a:xfrm>
            <a:off x="3691080" y="13431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52"/>
          <p:cNvSpPr/>
          <p:nvPr/>
        </p:nvSpPr>
        <p:spPr>
          <a:xfrm>
            <a:off x="5770440" y="134136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53"/>
          <p:cNvSpPr/>
          <p:nvPr/>
        </p:nvSpPr>
        <p:spPr>
          <a:xfrm>
            <a:off x="7869240" y="13399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54"/>
          <p:cNvSpPr/>
          <p:nvPr/>
        </p:nvSpPr>
        <p:spPr>
          <a:xfrm>
            <a:off x="1601640" y="348300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55"/>
          <p:cNvSpPr/>
          <p:nvPr/>
        </p:nvSpPr>
        <p:spPr>
          <a:xfrm>
            <a:off x="3544920" y="34862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56"/>
          <p:cNvSpPr/>
          <p:nvPr/>
        </p:nvSpPr>
        <p:spPr>
          <a:xfrm>
            <a:off x="5772240" y="34765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57"/>
          <p:cNvSpPr/>
          <p:nvPr/>
        </p:nvSpPr>
        <p:spPr>
          <a:xfrm>
            <a:off x="7859880" y="34862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组合 20"/>
          <p:cNvGrpSpPr/>
          <p:nvPr/>
        </p:nvGrpSpPr>
        <p:grpSpPr>
          <a:xfrm>
            <a:off x="361800" y="876240"/>
            <a:ext cx="8247960" cy="2188080"/>
            <a:chOff x="361800" y="876240"/>
            <a:chExt cx="8247960" cy="2188080"/>
          </a:xfrm>
        </p:grpSpPr>
        <p:grpSp>
          <p:nvGrpSpPr>
            <p:cNvPr id="1071" name="组合 4"/>
            <p:cNvGrpSpPr/>
            <p:nvPr/>
          </p:nvGrpSpPr>
          <p:grpSpPr>
            <a:xfrm>
              <a:off x="361800" y="876240"/>
              <a:ext cx="3850200" cy="459720"/>
              <a:chOff x="361800" y="876240"/>
              <a:chExt cx="3850200" cy="459720"/>
            </a:xfrm>
          </p:grpSpPr>
          <p:sp>
            <p:nvSpPr>
              <p:cNvPr id="1072" name="文本框 2"/>
              <p:cNvSpPr/>
              <p:nvPr/>
            </p:nvSpPr>
            <p:spPr>
              <a:xfrm>
                <a:off x="361800" y="876240"/>
                <a:ext cx="385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在      里填上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＞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”“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＜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”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或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”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椭圆 3"/>
              <p:cNvSpPr/>
              <p:nvPr/>
            </p:nvSpPr>
            <p:spPr>
              <a:xfrm>
                <a:off x="812520" y="885600"/>
                <a:ext cx="432360" cy="432000"/>
              </a:xfrm>
              <a:prstGeom prst="ellipse">
                <a:avLst/>
              </a:prstGeom>
              <a:noFill/>
              <a:ln w="12600">
                <a:solidFill>
                  <a:srgbClr val="9595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组合 12"/>
            <p:cNvGrpSpPr/>
            <p:nvPr/>
          </p:nvGrpSpPr>
          <p:grpSpPr>
            <a:xfrm>
              <a:off x="607320" y="1696320"/>
              <a:ext cx="8002440" cy="1368000"/>
              <a:chOff x="607320" y="1696320"/>
              <a:chExt cx="8002440" cy="1368000"/>
            </a:xfrm>
          </p:grpSpPr>
          <p:sp>
            <p:nvSpPr>
              <p:cNvPr id="1075" name="文本框 5"/>
              <p:cNvSpPr/>
              <p:nvPr/>
            </p:nvSpPr>
            <p:spPr>
              <a:xfrm>
                <a:off x="607320" y="169632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8 -19      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文本框 6"/>
              <p:cNvSpPr/>
              <p:nvPr/>
            </p:nvSpPr>
            <p:spPr>
              <a:xfrm>
                <a:off x="3389040" y="169632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2 -27      6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文本框 7"/>
              <p:cNvSpPr/>
              <p:nvPr/>
            </p:nvSpPr>
            <p:spPr>
              <a:xfrm>
                <a:off x="6154200" y="169668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 -57      84-3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文本框 8"/>
              <p:cNvSpPr/>
              <p:nvPr/>
            </p:nvSpPr>
            <p:spPr>
              <a:xfrm>
                <a:off x="613440" y="260460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5 -17      2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文本框 9"/>
              <p:cNvSpPr/>
              <p:nvPr/>
            </p:nvSpPr>
            <p:spPr>
              <a:xfrm>
                <a:off x="3538800" y="260460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2 -3      7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文本框 10"/>
              <p:cNvSpPr/>
              <p:nvPr/>
            </p:nvSpPr>
            <p:spPr>
              <a:xfrm>
                <a:off x="6176880" y="260460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5 -19      70-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椭圆 14"/>
            <p:cNvSpPr/>
            <p:nvPr/>
          </p:nvSpPr>
          <p:spPr>
            <a:xfrm>
              <a:off x="1585440" y="170460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15"/>
            <p:cNvSpPr/>
            <p:nvPr/>
          </p:nvSpPr>
          <p:spPr>
            <a:xfrm>
              <a:off x="4370400" y="170460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椭圆 16"/>
            <p:cNvSpPr/>
            <p:nvPr/>
          </p:nvSpPr>
          <p:spPr>
            <a:xfrm>
              <a:off x="7152120" y="170460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椭圆 17"/>
            <p:cNvSpPr/>
            <p:nvPr/>
          </p:nvSpPr>
          <p:spPr>
            <a:xfrm>
              <a:off x="1591560" y="260244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椭圆 18"/>
            <p:cNvSpPr/>
            <p:nvPr/>
          </p:nvSpPr>
          <p:spPr>
            <a:xfrm>
              <a:off x="4376520" y="260244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椭圆 19"/>
            <p:cNvSpPr/>
            <p:nvPr/>
          </p:nvSpPr>
          <p:spPr>
            <a:xfrm>
              <a:off x="7158240" y="260244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文本框 21"/>
          <p:cNvSpPr/>
          <p:nvPr/>
        </p:nvSpPr>
        <p:spPr>
          <a:xfrm>
            <a:off x="1538280" y="16509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文本框 22"/>
          <p:cNvSpPr/>
          <p:nvPr/>
        </p:nvSpPr>
        <p:spPr>
          <a:xfrm>
            <a:off x="4335480" y="16509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23"/>
          <p:cNvSpPr/>
          <p:nvPr/>
        </p:nvSpPr>
        <p:spPr>
          <a:xfrm>
            <a:off x="7112160" y="1650960"/>
            <a:ext cx="4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文本框 24"/>
          <p:cNvSpPr/>
          <p:nvPr/>
        </p:nvSpPr>
        <p:spPr>
          <a:xfrm>
            <a:off x="1555920" y="254952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25"/>
          <p:cNvSpPr/>
          <p:nvPr/>
        </p:nvSpPr>
        <p:spPr>
          <a:xfrm>
            <a:off x="4336920" y="2549520"/>
            <a:ext cx="4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26"/>
          <p:cNvSpPr/>
          <p:nvPr/>
        </p:nvSpPr>
        <p:spPr>
          <a:xfrm>
            <a:off x="7128000" y="254952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文本框 2"/>
          <p:cNvSpPr/>
          <p:nvPr/>
        </p:nvSpPr>
        <p:spPr>
          <a:xfrm>
            <a:off x="874800" y="1425600"/>
            <a:ext cx="71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每只海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，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买一只海螺，还剩多少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3"/>
          <p:cNvSpPr/>
          <p:nvPr/>
        </p:nvSpPr>
        <p:spPr>
          <a:xfrm>
            <a:off x="1047600" y="2163600"/>
            <a:ext cx="582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0-13=37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还剩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7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0:33:30Z</dcterms:created>
  <dc:creator/>
  <dc:description/>
  <dc:language>en-US</dc:language>
  <cp:lastModifiedBy>万润仪器贸易公司</cp:lastModifiedBy>
  <dcterms:modified xsi:type="dcterms:W3CDTF">2020-08-21T00:28:18Z</dcterms:modified>
  <cp:revision>1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